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009A8-0B7A-4BE9-BA43-59D5BF9181A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A133F-F92B-45D6-97BA-F5BD9BF544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36562-D2AC-4E62-A3C2-2229B4FDE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EE3AD-F549-43DF-9BE1-E4054D2833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5490D-7A0C-487D-9CF7-479CF9988F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4EC7E-33B3-49FF-B319-906E8B881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B9ABA-32A8-48D7-A04C-53F6355BA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FB36C-61DA-40C8-8598-3008373A9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8B959-4EB6-4D30-BE90-41B2A4C05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7651B-2E10-4ED7-BFAB-F2903B395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1967A-B2B5-4125-8417-A541924F0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3D2DD-845A-4476-9614-A1FE62ECA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4A53C-0A69-40CA-9ABD-847053867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17733-3AB6-43E8-9B4D-3598EDE3908E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7" descr="Unidentified Spirillum Bacteria"/>
          <p:cNvPicPr/>
          <p:nvPr/>
        </p:nvPicPr>
        <p:blipFill>
          <a:blip r:embed="rId1"/>
          <a:stretch/>
        </p:blipFill>
        <p:spPr>
          <a:xfrm>
            <a:off x="5095800" y="2962440"/>
            <a:ext cx="4048200" cy="38955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5" descr="bacteria"/>
          <p:cNvPicPr/>
          <p:nvPr/>
        </p:nvPicPr>
        <p:blipFill>
          <a:blip r:embed="rId2"/>
          <a:stretch/>
        </p:blipFill>
        <p:spPr>
          <a:xfrm>
            <a:off x="0" y="0"/>
            <a:ext cx="5334120" cy="4200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5" descr="ip_microbes"/>
          <p:cNvPicPr/>
          <p:nvPr/>
        </p:nvPicPr>
        <p:blipFill>
          <a:blip r:embed="rId1"/>
          <a:stretch/>
        </p:blipFill>
        <p:spPr>
          <a:xfrm>
            <a:off x="0" y="0"/>
            <a:ext cx="4013280" cy="42210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7" descr="aal0020l"/>
          <p:cNvPicPr/>
          <p:nvPr/>
        </p:nvPicPr>
        <p:blipFill>
          <a:blip r:embed="rId2"/>
          <a:stretch/>
        </p:blipFill>
        <p:spPr>
          <a:xfrm>
            <a:off x="5486400" y="3048120"/>
            <a:ext cx="3657600" cy="380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5" descr="384254225_867ffb37e1_m"/>
          <p:cNvPicPr/>
          <p:nvPr/>
        </p:nvPicPr>
        <p:blipFill>
          <a:blip r:embed="rId1"/>
          <a:stretch/>
        </p:blipFill>
        <p:spPr>
          <a:xfrm>
            <a:off x="0" y="0"/>
            <a:ext cx="3940200" cy="40766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7" descr="800px-Mouldy_bread"/>
          <p:cNvPicPr/>
          <p:nvPr/>
        </p:nvPicPr>
        <p:blipFill>
          <a:blip r:embed="rId2"/>
          <a:stretch/>
        </p:blipFill>
        <p:spPr>
          <a:xfrm>
            <a:off x="4325760" y="0"/>
            <a:ext cx="4818240" cy="36133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bacteria3"/>
          <p:cNvPicPr/>
          <p:nvPr/>
        </p:nvPicPr>
        <p:blipFill>
          <a:blip r:embed="rId3"/>
          <a:stretch/>
        </p:blipFill>
        <p:spPr>
          <a:xfrm>
            <a:off x="1763640" y="4221000"/>
            <a:ext cx="4870440" cy="26370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3T17:52:05Z</dcterms:created>
  <dc:creator>CEC</dc:creator>
  <dc:description/>
  <dc:language>en-US</dc:language>
  <cp:lastModifiedBy>RomaK</cp:lastModifiedBy>
  <dcterms:modified xsi:type="dcterms:W3CDTF">2015-09-04T10:52:53Z</dcterms:modified>
  <cp:revision>4</cp:revision>
  <dc:subject/>
  <dc:title>Slide 1</dc:title>
</cp:coreProperties>
</file>